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1DE8-541B-407C-B04D-42B4E7E2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B24-2FAF-48BF-AD9A-2DA8894F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064-A61C-4217-861C-798328F5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EAA-A910-4169-91FD-CF7221E1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F87B-8D72-4E25-B4EC-B6E3DCCC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681A-4068-4133-983B-E776FCF1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F2D5-9212-4267-A381-DC312A54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86E9-1E76-4CF1-8267-5ACA77EB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1B97-F849-4870-AA54-BBAB09AD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F940-F947-4F84-A608-F63B60A0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BAF2-FC95-4C6F-9F06-8FEED8DD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E3F-C00F-4873-8098-F231A0A8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9660-A404-4884-BEE5-C470E630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2E55-122B-4F00-A26D-03FD3984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BDEC-14DA-4394-BA8E-A654C6C0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10F7-75D2-4AD6-8048-39C709F4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F083-CFA7-4FFE-8095-B2B8962F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317-D19D-4C30-A040-97A6B6FD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8D39-DCA4-4004-B13E-64539E65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9F7-76E4-444F-A9F7-ED5A8607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CBA-490B-4AE4-A818-28E0F174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B46-826B-43F2-9D81-4159262C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09D1-8779-4357-B63D-7F715112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5CC-7016-4453-8523-33AFF95B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7D38-CB7B-4C65-B952-F632B9FF22B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FB96-549C-4662-9658-1D6AB40A4C7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.thechinaguide.com/forbidden_city/index.php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ews.nationalgeographic.com/news/2007/09/070926-china-rice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hina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eography and Histor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ang Dynasty (618-907 AD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uler: T’ai Tsu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licies: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 educated advisors (Han Dynasty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 land for every man (Sui Dynasty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 census (Sui Dynasty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dvancement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 trade and cities grew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mpress Wu Chao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’ai Tsung’s girlfrien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Gaozong’s girlfriend (T’ai Tsung’s son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uled after Gaozong’s death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gent to her son before forcing him off the throne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moved from power at the at of 79 (705 AD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ivil Wa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suan Tsung took control in 712 A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xpanded border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topped Arab invasio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ule ended due to focus on philosophy and the art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ore Civil Wa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ung Dynasty (907-1279 AD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ivil Wars continu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eakened defen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emies were paid in gold to not inva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axes increas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xaminations continued for political offi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Deal Gone Wrong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Juchen in Northern Chi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outhern Sung Dynasty develop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rade with India created an economy based on paper mone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ongol Empire (1279-1368 AD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y 1276 they had control of Chin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eader: Kublai Kha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olicies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Conquer other land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Offices to foreigners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f131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arco Pol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Keep Mongolian language and culture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lack Death (1330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eakened the Mongol Empi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d Turbons (1350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rove out Mongol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nited China under the Ming Dynas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ing Dynasty (1368-1644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eader: Hung W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entralized power (Tang Dynasty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xaminations for office (Han Dynasty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Imperial Pala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istory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one Ag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change in climate made them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settle and farm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eople settled near water because of farming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entral Asi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hang Dynasty (1523-1027 BC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Bronze Age occurred when bronze was developed and used for creating tools and weapon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Egyptians and the Asians.  The writing is the same as what is used today, only an earlier version written on bones that supposedly told the futur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ones and tortoise shell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king ruled, which united the people under the Shang Dynasty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re was a rich and poor clas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eople learned about Chariots from Central Asi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Shang Dynasty lasted about 700 year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032360" y="2577960"/>
            <a:ext cx="36176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hou Dynasty (1027-221 BC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00 kingdoms existed under the Chou empero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vaders from the northwest pushed the people to the eas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people learned how to make iron for tools and farming, which made production easi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ron was used to make weapons, which encouraged warfar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fter the wars, only 7 kingdoms were left, and eventually only King Ch’in, who defeated the other 6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h’in Dynasty (221-206 BC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 made the people use the same writing and system of weight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 chose his own assistants and sent them out as governors and judges for parts of his empir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 ordered the Great Wall of China to be buil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Han Dynasty (206 BC – 220 AD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Huns were removed by Wu Ti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u Ti set up the Silk Road for trad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Silk Road connected Asia with Egypt and the Roman Empir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Young, intelligent, hard working men were chosen for university, which was paid for by the government.  They learned Confucian philosophy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n Ch’ao was gone exploring for 28 years, and learned about the Roman Empire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uring the end of the Han Dynasty there was continuous fighting for power, rebellions, and a smallpox epidemic.  This opened the door for generals to take control of the empire, resulting in three main areas of leadership:  Wei, Shu Han, and Wu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ui Dynasty (581-618 AD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5.  He wanted to decrease taxes for the poor, conducted a census for tax information, and wanted to give land to every man, who would pass it on to his sons at the age of 60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6. Wen Ti did what was done during the Han Dynasty.  He chose advisors from universities to find educated and fair me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Yang Ti constructed a Grand Canal that connected the Yellow River with the Yangtze and Huai Rivers.  This connected north and south China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Yang Ti tried to invade Korea, which was a mistake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6:16:48Z</dcterms:created>
  <dc:creator> Erin McCarthy</dc:creator>
  <dc:description/>
  <dc:language>en-US</dc:language>
  <cp:lastModifiedBy>Erin McCarthy</cp:lastModifiedBy>
  <dcterms:modified xsi:type="dcterms:W3CDTF">2010-03-16T19:23:12Z</dcterms:modified>
  <cp:revision>8</cp:revision>
  <dc:subject/>
  <dc:title>China  Geography and History</dc:title>
</cp:coreProperties>
</file>